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ABF-F7A9-42E6-99C6-9D564EAF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753-1C55-4396-8064-0FA826F6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673-726E-47F9-8242-F5B6F4EA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C99-F5AD-47FA-8DFF-A305E940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7F7-304D-4622-8CC3-D0ECCED2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E57-123D-4F64-9865-050F434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1CE-0794-45C0-9283-C39A8749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9D4-A970-448D-9AEA-1EA47E2F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0A2-4E6E-4EA8-BBF6-84E84CDF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706-45E4-4E07-8FE0-34A741B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41A-FE8B-4A04-B178-566287B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584-579E-44A6-AA2D-51BD2AFE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2B77-1BB8-4AE6-864A-243B23630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333399"/>
            </a:gs>
            <a:gs pos="100000">
              <a:srgbClr val="99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oudy Stout"/>
              </a:rPr>
              <a:t>La Ma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or Anna Get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3341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0000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asa. Es muy grande y bel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1722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330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la sala. Es muy moderna y incre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Comfortable and Nice Living Room Interior Design: Pretty comfortable Living Room Hill"/>
          <p:cNvPicPr/>
          <p:nvPr/>
        </p:nvPicPr>
        <p:blipFill>
          <a:blip r:embed="rId1"/>
          <a:stretch/>
        </p:blipFill>
        <p:spPr>
          <a:xfrm>
            <a:off x="1981080" y="3048120"/>
            <a:ext cx="51055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cuarto. Es muy bella, increible, y ma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56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9933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cina. Es muy bella, increible, y estup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638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00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b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o. Es muy grande, bella, y estupen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6390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medo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omedor. Es muy bonita, moderna, y fabulo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53337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66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De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cuarto de juegos. Es muy increible, fabulosa, increible, y diver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562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cc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jardin. Es muy bonita y magni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5:07Z</dcterms:created>
  <dc:creator>getmanann</dc:creator>
  <dc:description/>
  <dc:language>en-US</dc:language>
  <cp:lastModifiedBy>getmanann</cp:lastModifiedBy>
  <dcterms:modified xsi:type="dcterms:W3CDTF">2013-04-04T15:54:19Z</dcterms:modified>
  <cp:revision>5</cp:revision>
  <dc:subject/>
  <dc:title>La Casa</dc:title>
</cp:coreProperties>
</file>